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48C-9CEC-4C01-9F9C-DF28F4E4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36F-3B43-4647-A344-A574DA84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6CA-36AB-457D-ADB2-BCD797DB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DB0-82D6-4A14-BC82-9B177C33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970-9F57-4908-938E-8B2D0EB1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DAE-42EA-4D69-B881-059403A9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65F-D8DF-4D2A-B259-4FC987E0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6F1-3AA9-43A6-B958-6A69B2F5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AAE-86DD-4AA3-AF7C-FBA6ED83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A8B-B1EB-47C2-94AC-D7D4F05E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F41-BE99-4FFF-BC00-C5CCB341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592-D636-4771-851A-FF3DF379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0D81-2A7C-49DF-B2D3-D713812DF32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2.2 Central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0372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the Central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entral purpose is the focus of an informational tex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t’s what the author wants you to lea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Questions  to ask yourself about Central Purpo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the main focus of this pa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did the author try to accomplish by writing this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oose the statement that is most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ips for Su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k yourself what the author most wants you to lea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member that a selection may contain many true statements that are not the central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entral purpose is likely to be a general statement concerning the entir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2:46:43Z</dcterms:created>
  <dc:creator>Jason</dc:creator>
  <dc:description/>
  <dc:language>en-US</dc:language>
  <cp:lastModifiedBy>Jason</cp:lastModifiedBy>
  <dcterms:modified xsi:type="dcterms:W3CDTF">2011-03-23T12:07:39Z</dcterms:modified>
  <cp:revision>1</cp:revision>
  <dc:subject/>
  <dc:title>2.2 Central Purpose</dc:title>
</cp:coreProperties>
</file>